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media/arrow.wav" ContentType="audio/x-wav"/>
  <Override PartName="/ppt/media/image3.gif" ContentType="image/gif"/>
  <Override PartName="/ppt/media/image7.png" ContentType="image/png"/>
  <Override PartName="/ppt/media/bomb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B66-516A-4E65-B307-B0260186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BA3-F8CB-4427-82E6-F75F0D72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69F-732F-4CB7-813D-6D4478FE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885-BAAF-4D3F-8008-F0822C8F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0F6B-B491-4321-824C-59350253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9401-3A53-491E-ACD9-DF6CF29A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C2AA-2F86-41FA-AB8B-2FE137CA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C625-FB81-4EEF-8442-58A4667D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4EBB-BF2F-4311-BD11-5C4214E6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C939-3434-4B34-BC14-4681C255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BD0C-00E6-476C-B91A-B2FF335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3B6-FBA7-4F10-8E47-7FED96B4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3C41-A4A3-40B3-A2D1-61B2563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0B2C-2668-484B-9482-B224F70E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AF56-E48F-4F9A-9BA4-49600A7A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B0B7-DDED-448E-937D-255FC592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9F6A-FEF4-4B5C-AC7A-7EC798CA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4437-3A38-42DA-957A-2209BB62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71A9C-AF6E-410D-9EFB-2988C207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710D-0547-49AA-B084-16824AC4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70CA6-221B-4CC2-AE01-A35E0F3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3A294-37BD-40EA-BA81-6D09B618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C8C-A5D0-4772-819C-39D96DD9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19C9D-17E9-4767-8B1A-19D4F5D6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B66C-F36C-4BC6-A4A7-4DF6B03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90478-6F0F-44E0-B0F2-2332193A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6C11-83E9-4E6E-9839-8DBB8F00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5C75-0D59-4B68-9535-51B7F513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795A4-017F-46A1-8624-109FC05D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DE54-5B1A-4791-8426-10380E95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781C-F45C-4115-9D4D-FF4F319F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C2272-5F91-4A2F-A643-52E4DA19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8482-3E70-4090-A46D-D4112533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815-8762-413C-8EFF-87A2CF55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C31F1-2EA7-47CF-BB81-20F168BB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0AAA-9AE5-46F9-A742-70B3EE1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57BB2-0820-4063-8CBB-7B799063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BD854-1887-4EB3-A774-43BF7C7B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1B090-3293-49E7-8E96-79241BA4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1602A-1187-47C7-9A41-B78C14A2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E346-A989-476E-A0DE-593B3CE0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940F0-CA41-45F3-893C-AF8070D0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9DDC0-8071-486E-9712-5C6FB503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6324-A022-476C-8615-F7E10F22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6C4-8917-441C-9883-C00845DB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697A-0EAC-45CB-8CF7-D321681B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44089-B6FD-4EEF-886C-BCA8ABD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DE34B-7E46-495E-B9E7-4ED395AD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7354-2328-4511-A2F9-83CB6166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3E08-4FB4-4134-A241-A408A7ED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EB063-B61A-4CD6-BA8B-8B54AB5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4E66F-9FE6-4E31-BDAA-B0E39006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0F68-3C57-4827-85CC-7E020EAF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ABF5-E9D3-4F37-B7DD-7D5808E1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B093-A6DD-48FD-B726-F99E0484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3DF-6A02-447B-A35F-DE4F0A2F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6780-057B-4D19-8792-B133B588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F3DF-9608-482D-B8B3-E3FE8DA9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D9E59-4BBE-4E5F-ADC4-BA65EBFA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DC9B-5553-43AE-AEC1-84EA010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1B960-BB7F-4CF5-9958-2BFCF830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D1EC-65A3-4205-A878-836CDB3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D6CBD-6A34-4983-A761-7BA85877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0BCD-C460-49E0-99BE-F71CB0C8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832CF-FDA7-488D-9123-2345B9D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8CF8-5800-4C1F-9EF7-0CAB69B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C0D-2DBA-4EBC-8348-97E01FB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C5AB-0CD5-4797-96BD-4AE1C1DE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7CFA-8565-445E-A628-F67D8FB2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A13D7-04B0-4A2B-AAE9-4A125449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F919D-32A9-4F5C-A770-0A4E9371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ADDB6-F6FE-47DB-8ED8-16765CA3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1DD32-5A07-41CA-9139-AED7041B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9E88B-9451-4B61-9E40-28885F6A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5DFBD-74D4-4531-B2EE-BE10BEF1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7B03-96D7-406E-B608-345ADE67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64AFC-39B3-41F0-B1B2-F315805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31CA-E1B3-41C9-A5D5-81075D2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D6578-17C8-46E5-9B71-B04C866E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7E4C-AE44-4C91-9E49-2DC97E09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8DAB-F0DA-49EF-B112-A8EDDD63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32ED7-87B8-4BDC-95CC-ED26BB9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9D8ED-C6D6-45BE-805B-A55948F5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CE4-3AD3-43EA-8801-ABEDAB2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DCD8-2121-439D-8658-0FC7D323F6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663-45B7-4DD6-9B38-598E5C95564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81D-E78F-4CF3-85C4-0183424E267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B31-41DA-48C5-A468-7F64FB73B3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A85-61A1-4E55-B068-80C898EA790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13DD-F649-4E19-8161-DCFF15CFE80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DB85-C341-4E09-91C3-38D3EE2752D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347760" y="285840"/>
            <a:ext cx="8119800" cy="4273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By :</a:t>
            </a: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Windell.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Illustrations by :The comput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home_collage.jpg"/>
          <p:cNvPicPr/>
          <p:nvPr/>
        </p:nvPicPr>
        <p:blipFill>
          <a:blip r:embed="rId2"/>
          <a:stretch/>
        </p:blipFill>
        <p:spPr>
          <a:xfrm>
            <a:off x="2127240" y="4187880"/>
            <a:ext cx="466416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828200" cy="52783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eople also have the right to bear weapon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individually and collectively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right is also presented in the context of 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military servic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shown to the broader righ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self defens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 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Picture 3" descr="soldado-2_4.gif"/>
          <p:cNvPicPr/>
          <p:nvPr/>
        </p:nvPicPr>
        <p:blipFill>
          <a:blip r:embed="rId1"/>
          <a:stretch/>
        </p:blipFill>
        <p:spPr>
          <a:xfrm>
            <a:off x="5181480" y="2895480"/>
            <a:ext cx="2076480" cy="192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zoom dir="out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7218360" cy="45925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was signed in        September 25,1789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ames Madison was the author of the 10 Amendm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3" descr="JamesMadisonJF62s.jpg"/>
          <p:cNvPicPr/>
          <p:nvPr/>
        </p:nvPicPr>
        <p:blipFill>
          <a:blip r:embed="rId1"/>
          <a:stretch/>
        </p:blipFill>
        <p:spPr>
          <a:xfrm>
            <a:off x="4267080" y="2895480"/>
            <a:ext cx="4165560" cy="39625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citizens should not have the rights to bear arms because a citizen might get angry and shoot some one over a cup of te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nother reason is because if some one hears a gunshot they'll pull out there gun and start shooting for no apparent reason and no ones shooting at them!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1eeff"/>
                </a:solidFill>
                <a:latin typeface="Copperplate Gothic Bold"/>
              </a:rPr>
              <a:t>amendment 2 rights to bear arms should be abolished because 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4" descr="1860riderpistol.gif"/>
          <p:cNvPicPr/>
          <p:nvPr/>
        </p:nvPicPr>
        <p:blipFill>
          <a:blip r:embed="rId1"/>
          <a:stretch/>
        </p:blipFill>
        <p:spPr>
          <a:xfrm>
            <a:off x="6324480" y="4724280"/>
            <a:ext cx="2514600" cy="193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edge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44696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Now people go into stores and rob places for money and for other valuable items such as jewelry clothing and sho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hildren come into school with guns in there shirts and creating gangs through out the schools of Americ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’s happening now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Picture 3" descr="le-mat-revolver.jpg"/>
          <p:cNvPicPr/>
          <p:nvPr/>
        </p:nvPicPr>
        <p:blipFill>
          <a:blip r:embed="rId1"/>
          <a:stretch/>
        </p:blipFill>
        <p:spPr>
          <a:xfrm>
            <a:off x="5372280" y="4648320"/>
            <a:ext cx="355572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691380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y personal opinion is that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 should be abolished because in some states now this is still aloud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people are getting killed because of this law and just because they want to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Gangs are also being formed and walking around with gun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 I think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Another reason is the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Virginia TECH </a:t>
            </a:r>
            <a:r>
              <a:rPr b="0" i="1" lang="en-US" sz="3200" spc="-1" strike="noStrike">
                <a:solidFill>
                  <a:srgbClr val="ffffff"/>
                </a:solidFill>
                <a:latin typeface="comic"/>
              </a:rPr>
              <a:t>TRADGEdY </a:t>
            </a: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that probably wouldn’t have happened if there were no gun shops unless you have a license and registration for hunting animal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(This tragedy happen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All across the world!!!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  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I think?   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4" descr="242050.jpg"/>
          <p:cNvPicPr/>
          <p:nvPr/>
        </p:nvPicPr>
        <p:blipFill>
          <a:blip r:embed="rId1"/>
          <a:stretch/>
        </p:blipFill>
        <p:spPr>
          <a:xfrm>
            <a:off x="7004160" y="3498840"/>
            <a:ext cx="1974600" cy="3114720"/>
          </a:xfrm>
          <a:prstGeom prst="rect">
            <a:avLst/>
          </a:prstGeom>
          <a:ln w="0">
            <a:noFill/>
          </a:ln>
        </p:spPr>
      </p:pic>
    </p:spTree>
  </p:cSld>
  <p:transition advTm="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2:50:08Z</dcterms:created>
  <dc:creator>bros 4 life</dc:creator>
  <dc:description/>
  <dc:language>en-US</dc:language>
  <cp:lastModifiedBy>sadie</cp:lastModifiedBy>
  <dcterms:modified xsi:type="dcterms:W3CDTF">2008-05-01T22:17:31Z</dcterms:modified>
  <cp:revision>46</cp:revision>
  <dc:subject/>
  <dc:title>Why the article of confederation needs to be replaced</dc:title>
</cp:coreProperties>
</file>